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B55-FA68-460C-883A-2D11150F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FE6-DD23-46BB-8545-26EE3A4B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7C0-7879-466F-9F31-090BD505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386-6200-489B-A21A-71671CDF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27ED-64B9-4535-AAD4-0A5AB14C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C90A-0BD9-4B14-B32B-21A515CF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B1E0-7FBB-414C-B02D-1B9ACBA8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6C1B-23E9-4ED5-A9E4-EBC5DD4B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D360-AA13-46A3-BF51-0219357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19F7-B2F1-40A8-A2DF-944CEABC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843E-3C58-4FC3-AF95-1F2DEBF2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F0C-F317-45C4-81B8-2541D88A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A2AA-3487-4BF0-9B72-968F7A7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D3DD-43BA-4564-93A5-970D61DE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FC06-6D80-499A-9BAC-563CDFE5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847E-EB2D-4F6A-AA52-443092E7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A249-3AA3-4778-A7D1-46733DDF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CF41-FE70-4588-89EF-07348B90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B2CD-64A2-4B17-B8C5-9E73BE5E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F36CF-0797-420D-A931-81D6A2E8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1C3F-3B0C-48C8-9900-F567233A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9FEF-D4E0-4F4D-8309-79F4E3C6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EDB-325C-4A54-BF18-66FA7E7D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9799-F73D-48EF-8502-893437AE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34EB-C462-429C-8F28-85763767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CCE1-3093-4F2E-9892-BC302301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C357-7F95-4EB8-8B6F-535A5AE4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E3B0-94CD-406B-9866-8028AAD6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70AD-13A5-4B0B-AC57-E4738AF8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0DB9-F4FF-4A56-ADED-FB7D8379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5075-4634-433C-9AA5-EC89E5E3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9E7D-3844-4028-83AF-E833007C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43283-0D07-41BC-A6DF-147D122B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AFB-6C1A-4215-9AC4-6C8943CB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258EA-A2AA-4758-A6FD-433B7AD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DF5A8-1AF5-4E3F-833E-1228D5A6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E413D-877D-4001-874B-6166BC0F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BB09-7EC3-429D-8E0C-1807A7D8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0F795-3F80-41A5-B5EB-6B5E4AAF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8F090-B8B2-41A5-98FB-0E03D95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408F-CEBB-4242-93E0-388E9DA9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F385-DE09-41D1-B56D-5C45B231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33A2E-E1E0-41EA-9EA4-BE1E2A1A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8A960-BBDB-4368-B8CF-1773A400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A84-57D0-4DEC-944C-E819C8CF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B7395-33A7-4C8E-8F4C-01012688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8F604-12B9-4EEB-85EA-39C347F2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82F92-9D71-445B-AABF-62B21948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CCFC5-6965-4C07-B866-AB44B1A6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499D7-DA25-406E-AA3F-3B99196D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BCB7-40A2-496F-8F81-71087AD4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77CC3-A05C-4214-9BDA-4861D0AB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31E4-7DA1-49B8-8D73-51B92C72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35FAB-E7BB-40AD-B9F4-EEE29562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A74C6-82E7-4AD9-9694-29D52F36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418-CC78-4FA9-BA9F-A9EC28C4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3AE3E-8E50-433C-8AB1-7F88037F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A65-3461-4F40-98AC-05DA7AD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8E1-61DD-47C7-8DAC-76D53393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E99-65BC-481B-AB85-4CADC3E3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8C5B-2EF4-4539-87A0-600C6DEC3C0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A59D-3205-4D42-82F4-30FFF365767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CAFA-6B86-4721-B8DC-3E371102635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C566-0FE5-4263-831E-35BCB301E31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A0B8-ABB7-49E8-9427-DA7104305F4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6"/>
          <p:cNvSpPr txBox="1"/>
          <p:nvPr/>
        </p:nvSpPr>
        <p:spPr>
          <a:xfrm>
            <a:off x="1042920" y="2997360"/>
            <a:ext cx="7489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898560" y="981000"/>
            <a:ext cx="7632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5959"/>
                </a:solidFill>
                <a:latin typeface="Arial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«Озёр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Arial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4015800" y="5157720"/>
            <a:ext cx="43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Пономарева Еле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Л «ВУВК  имени А.П. Киселё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457200" y="277920"/>
            <a:ext cx="82296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c65"/>
                </a:solidFill>
                <a:latin typeface="Arial"/>
              </a:rPr>
              <a:t>Значение оз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зера увлажняют кли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Добывают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водят ры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еревозят гру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Являются местами отды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Являются источником пресной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1"/>
          <p:cNvSpPr/>
          <p:nvPr/>
        </p:nvSpPr>
        <p:spPr>
          <a:xfrm>
            <a:off x="2573640" y="351000"/>
            <a:ext cx="42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нет-ссыл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1089000" y="155268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text=%D0%BE%D0%B7%D1%91%D1%80%D0%B0+%D1%80%D0%BE%D1%81%D1%81%D0%B8%D0%B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6840" y="1341000"/>
            <a:ext cx="2962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569080" cy="52560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1"/>
          <p:cNvSpPr/>
          <p:nvPr/>
        </p:nvSpPr>
        <p:spPr>
          <a:xfrm>
            <a:off x="250920" y="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зеро </a:t>
            </a:r>
            <a:r>
              <a:rPr b="0" lang="ru-RU" sz="3600" spc="-1" strike="noStrike">
                <a:solidFill>
                  <a:srgbClr val="031828"/>
                </a:solidFill>
                <a:latin typeface="Arial"/>
              </a:rPr>
              <a:t>– это скопление воды в природном углуб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542880" y="60480"/>
            <a:ext cx="835200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468360" y="1341360"/>
          <a:ext cx="8207280" cy="5399280"/>
        </p:xfrm>
        <a:graphic>
          <a:graphicData uri="http://schemas.openxmlformats.org/drawingml/2006/table">
            <a:tbl>
              <a:tblPr/>
              <a:tblGrid>
                <a:gridCol w="1816200"/>
                <a:gridCol w="2431800"/>
                <a:gridCol w="1943280"/>
                <a:gridCol w="2016000"/>
              </a:tblGrid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оисхо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тлов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чины образования котлов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ид озера сверх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кто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гибы земной коры, трещ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долговатые и уз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айкал, Тангань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едник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ревний ле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адожское, Онеж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тато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татки древних морей, отделившихся при горообраз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ьшой площ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спийское, Араль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пру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рушение в русло реки скалы, перегораживание рус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улка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кратере потухшего вулк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уг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оноц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зёра-стар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старом русле ре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ковообраз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рст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творение пород вод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углые, небольшой площад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780000" y="5921280"/>
            <a:ext cx="24796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rebuchet MS"/>
              </a:rPr>
              <a:t>Оз.Байка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500040" y="-146160"/>
            <a:ext cx="8358120" cy="1554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f_7801"/>
          <p:cNvPicPr/>
          <p:nvPr/>
        </p:nvPicPr>
        <p:blipFill>
          <a:blip r:embed="rId2"/>
          <a:stretch/>
        </p:blipFill>
        <p:spPr>
          <a:xfrm>
            <a:off x="495360" y="1027080"/>
            <a:ext cx="8351640" cy="51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1200240" y="73080"/>
            <a:ext cx="6511680" cy="1311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557000"/>
            <a:ext cx="31780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зеро ледниковое - образуется в результате выпахивающей и аккумулятивной деятельности ледников. 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2433600" y="2673360"/>
            <a:ext cx="85680" cy="38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3"/>
          <a:stretch/>
        </p:blipFill>
        <p:spPr>
          <a:xfrm>
            <a:off x="2649600" y="2889360"/>
            <a:ext cx="85680" cy="3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2417760" y="1341360"/>
            <a:ext cx="4970520" cy="46087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916360" y="5951520"/>
            <a:ext cx="3673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. Таймыр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0" descr="f_7801"/>
          <p:cNvPicPr/>
          <p:nvPr/>
        </p:nvPicPr>
        <p:blipFill>
          <a:blip r:embed="rId5"/>
          <a:stretch/>
        </p:blipFill>
        <p:spPr>
          <a:xfrm>
            <a:off x="230040" y="1144440"/>
            <a:ext cx="8748720" cy="480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1457280" y="92160"/>
            <a:ext cx="6516720" cy="1554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Карст"/>
          <p:cNvPicPr/>
          <p:nvPr/>
        </p:nvPicPr>
        <p:blipFill>
          <a:blip r:embed="rId2"/>
          <a:stretch/>
        </p:blipFill>
        <p:spPr>
          <a:xfrm>
            <a:off x="755640" y="1660680"/>
            <a:ext cx="7993080" cy="36414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6"/>
          <p:cNvSpPr/>
          <p:nvPr/>
        </p:nvSpPr>
        <p:spPr>
          <a:xfrm>
            <a:off x="2916360" y="5589720"/>
            <a:ext cx="360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Оз. ЦРВЕНО (Красное) в Хорватии, глубина 300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250920" y="333360"/>
          <a:ext cx="8893080" cy="6964200"/>
        </p:xfrm>
        <a:graphic>
          <a:graphicData uri="http://schemas.openxmlformats.org/drawingml/2006/table">
            <a:tbl>
              <a:tblPr/>
              <a:tblGrid>
                <a:gridCol w="2544840"/>
                <a:gridCol w="3593880"/>
                <a:gridCol w="2754360"/>
              </a:tblGrid>
              <a:tr h="916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73c65"/>
                          </a:solidFill>
                          <a:latin typeface="Allegro BT"/>
                        </a:rPr>
                        <a:t>Озера-стариц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           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66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eccf3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31828"/>
                          </a:solidFill>
                          <a:latin typeface="Arial"/>
                        </a:rPr>
                        <a:t>Примером пойменных озер могут служить озера-стариц. Это участки бывшего русла реки, ИЗМЕНИВШЕЙ В ЭТОМ МЕСТЕ СВОЕ НАПРАВЛЕНИЕ Поэтому и форма озер удлиненная, вытянутая, нередко сохраняющая форму изгиба речного рус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8" name="Picture 14" descr="lilit"/>
          <p:cNvPicPr/>
          <p:nvPr/>
        </p:nvPicPr>
        <p:blipFill>
          <a:blip r:embed="rId1"/>
          <a:stretch/>
        </p:blipFill>
        <p:spPr>
          <a:xfrm>
            <a:off x="684360" y="162864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" descr="lopdesnat"/>
          <p:cNvPicPr/>
          <p:nvPr/>
        </p:nvPicPr>
        <p:blipFill>
          <a:blip r:embed="rId2"/>
          <a:stretch/>
        </p:blipFill>
        <p:spPr>
          <a:xfrm>
            <a:off x="3348000" y="1593720"/>
            <a:ext cx="2563920" cy="2448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smozerot"/>
          <p:cNvPicPr/>
          <p:nvPr/>
        </p:nvPicPr>
        <p:blipFill>
          <a:blip r:embed="rId3"/>
          <a:stretch/>
        </p:blipFill>
        <p:spPr>
          <a:xfrm>
            <a:off x="6084720" y="1633680"/>
            <a:ext cx="2448000" cy="240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1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82296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292" name="Organization Chart 4"/>
          <p:cNvGrpSpPr/>
          <p:nvPr/>
        </p:nvGrpSpPr>
        <p:grpSpPr>
          <a:xfrm>
            <a:off x="457200" y="1052640"/>
            <a:ext cx="8228520" cy="3483360"/>
            <a:chOff x="457200" y="1052640"/>
            <a:chExt cx="8228520" cy="3483360"/>
          </a:xfrm>
        </p:grpSpPr>
        <p:cxnSp>
          <p:nvCxnSpPr>
            <p:cNvPr id="293" name="_s1028"/>
            <p:cNvCxnSpPr>
              <a:stCxn id="294" idx="0"/>
              <a:endCxn id="295" idx="2"/>
            </p:cNvCxnSpPr>
            <p:nvPr/>
          </p:nvCxnSpPr>
          <p:spPr>
            <a:xfrm flipV="1" rot="16200000">
              <a:off x="5330520" y="1685880"/>
              <a:ext cx="697320" cy="221544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6" name="_s1029"/>
            <p:cNvCxnSpPr>
              <a:stCxn id="297" idx="0"/>
              <a:endCxn id="295" idx="2"/>
            </p:cNvCxnSpPr>
            <p:nvPr/>
          </p:nvCxnSpPr>
          <p:spPr>
            <a:xfrm flipH="1" flipV="1" rot="5400000">
              <a:off x="3114720" y="1685880"/>
              <a:ext cx="697320" cy="221616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5" name="_s1030"/>
            <p:cNvSpPr/>
            <p:nvPr/>
          </p:nvSpPr>
          <p:spPr>
            <a:xfrm>
              <a:off x="2673000" y="1052640"/>
              <a:ext cx="3797640" cy="1393200"/>
            </a:xfrm>
            <a:prstGeom prst="roundRect">
              <a:avLst>
                <a:gd name="adj" fmla="val 16667"/>
              </a:avLst>
            </a:prstGeom>
            <a:solidFill>
              <a:srgbClr val="4e67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Озер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031"/>
            <p:cNvSpPr/>
            <p:nvPr/>
          </p:nvSpPr>
          <p:spPr>
            <a:xfrm>
              <a:off x="457200" y="3142800"/>
              <a:ext cx="3797640" cy="1393200"/>
            </a:xfrm>
            <a:prstGeom prst="roundRect">
              <a:avLst>
                <a:gd name="adj" fmla="val 16667"/>
              </a:avLst>
            </a:prstGeom>
            <a:solidFill>
              <a:srgbClr val="4e67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Сточ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айка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Ладож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неж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032"/>
            <p:cNvSpPr/>
            <p:nvPr/>
          </p:nvSpPr>
          <p:spPr>
            <a:xfrm>
              <a:off x="4888080" y="3142800"/>
              <a:ext cx="3797640" cy="1393200"/>
            </a:xfrm>
            <a:prstGeom prst="roundRect">
              <a:avLst>
                <a:gd name="adj" fmla="val 16667"/>
              </a:avLst>
            </a:prstGeom>
            <a:solidFill>
              <a:srgbClr val="4e67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Бессточно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спий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алха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Ч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Овал 1"/>
          <p:cNvSpPr/>
          <p:nvPr/>
        </p:nvSpPr>
        <p:spPr>
          <a:xfrm>
            <a:off x="1042920" y="5229360"/>
            <a:ext cx="2376720" cy="1130040"/>
          </a:xfrm>
          <a:prstGeom prst="ellipse">
            <a:avLst/>
          </a:prstGeom>
          <a:solidFill>
            <a:srgbClr val="5eccf3"/>
          </a:solidFill>
          <a:ln w="15840">
            <a:solidFill>
              <a:srgbClr val="226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елка вниз 2"/>
          <p:cNvSpPr/>
          <p:nvPr/>
        </p:nvSpPr>
        <p:spPr>
          <a:xfrm>
            <a:off x="2968560" y="474012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1042920" y="5794200"/>
            <a:ext cx="536760" cy="1000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"/>
          <p:cNvPicPr/>
          <p:nvPr/>
        </p:nvPicPr>
        <p:blipFill>
          <a:blip r:embed="rId3"/>
          <a:stretch/>
        </p:blipFill>
        <p:spPr>
          <a:xfrm>
            <a:off x="5435640" y="5259240"/>
            <a:ext cx="2395440" cy="1146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"/>
          <p:cNvPicPr/>
          <p:nvPr/>
        </p:nvPicPr>
        <p:blipFill>
          <a:blip r:embed="rId4"/>
          <a:stretch/>
        </p:blipFill>
        <p:spPr>
          <a:xfrm>
            <a:off x="7294680" y="4896000"/>
            <a:ext cx="536400" cy="93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133200"/>
            <a:ext cx="7991640" cy="13114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1650960" y="5778000"/>
            <a:ext cx="7523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>
              <a:lnSpc>
                <a:spcPct val="7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0680" algn="ctr">
              <a:lnSpc>
                <a:spcPct val="7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                     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амое соленое озеро мира –  Мертвое море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6697440" cy="280836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1158840" y="1085760"/>
            <a:ext cx="1382760" cy="88272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6"/>
          <p:cNvSpPr/>
          <p:nvPr/>
        </p:nvSpPr>
        <p:spPr>
          <a:xfrm>
            <a:off x="478440" y="1916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сные – до    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2778480" y="249228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оноватые – от1 % до 3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5817960" y="188604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ые – более 3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Прямая со стрелкой 10" descr=""/>
          <p:cNvPicPr/>
          <p:nvPr/>
        </p:nvPicPr>
        <p:blipFill>
          <a:blip r:embed="rId4"/>
          <a:stretch/>
        </p:blipFill>
        <p:spPr>
          <a:xfrm>
            <a:off x="4017960" y="1238400"/>
            <a:ext cx="341280" cy="144432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ая со стрелкой 13" descr=""/>
          <p:cNvPicPr/>
          <p:nvPr/>
        </p:nvPicPr>
        <p:blipFill>
          <a:blip r:embed="rId5"/>
          <a:stretch/>
        </p:blipFill>
        <p:spPr>
          <a:xfrm>
            <a:off x="6686640" y="1225440"/>
            <a:ext cx="817560" cy="852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1:21:27Z</dcterms:created>
  <dc:creator>Customer</dc:creator>
  <dc:description/>
  <dc:language>en-US</dc:language>
  <cp:lastModifiedBy>user</cp:lastModifiedBy>
  <dcterms:modified xsi:type="dcterms:W3CDTF">2013-02-10T15:38:49Z</dcterms:modified>
  <cp:revision>11</cp:revision>
  <dc:subject/>
  <dc:title>Тектонические озера</dc:title>
</cp:coreProperties>
</file>