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D20-6488-4131-A665-AFBFCBFE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F6B-99DC-4729-A477-9EC77F8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434-9A0F-4A67-9F26-AFD9B3FD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75-C3E5-4891-9A99-B72CECC8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4E75-4405-41CC-B40F-392E9703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C8A2-7466-470F-9871-4B3863B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F26-C231-48FC-9898-8480DAA4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50F2-099D-4729-8792-332DECE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9186-5126-4030-A6EA-D5F88E6C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FD36-9615-4EC7-8BF2-3D6B65C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073-C571-4CE2-BAED-6BE7CC6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286-DD67-4C2C-A67F-8DD90A7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9C5-886A-42F2-B7D0-B6C06FB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2B0-820E-438C-8F16-F31E523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3AF-2F54-4A30-A838-6472103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A72-6067-4693-9A2E-60E4D617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DF5-5BF4-48A4-ADA6-A22A428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FB24-A5A4-4928-8D77-568DAA39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08C0-C698-4A34-83E1-5FE0C2A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6ABB-1A46-4BD2-B3FC-55ED989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628F-6869-4304-B462-1F119DD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15EB-4167-4332-9656-914A3D0E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6B9-EBF9-4762-9575-BA19925F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71B7-2053-46AD-8EAD-ABB3C248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C9E9-B2DC-4936-B913-64E3347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F493-15FE-48AA-B29D-A8F85C4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4D8E-658D-4AC5-B006-6CDC847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0442-D77D-4CC0-90DC-274DB13C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8DBB-3CF5-4495-BC28-3B14DB30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703B-B417-46C6-B54D-3F48D184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F2B4-2507-4940-886A-54C036B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DEE2-F0B0-4722-AAA6-3790B4F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2E8D-837B-45A5-9BCC-62682285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AC0-1C8B-47EF-8E9B-AB6E3E8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809E-77A9-4EF2-9CC6-10092D80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A80D-57C4-4D62-B7C4-B4F5D3D0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DAD3-090E-46F4-967F-7FB07305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B075-1B5D-416B-AC4D-3EF51D5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3865-3D04-415F-B14F-F868978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8977-34FD-442C-B742-2C21D49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9EF0-0C2C-4749-983A-1399479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4329-517A-40DB-9732-9901F0D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7093-4AC6-46E5-9A0C-3E91F63F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7926-81D0-4AC2-A7D3-12E5B5DC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C29-80A2-44D0-90C2-20F9F93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BD43-2CEA-4DC3-B522-39AD4041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80AD-BC2C-4576-9BC5-AE6DDAFD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90F0-35E8-487B-B786-CF30286D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99A0-3EB3-419E-9AA4-B7EB411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91188-4D32-4B38-8300-68E3111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C608-3AEC-4ACC-A280-866B449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32DD-6C03-47CF-89C6-22DF765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1C56-60CC-40D8-91C7-A18EC09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5907-BD5B-48DA-9793-BD9BFA3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1EED-AC97-4198-A5F5-5DE6C16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262-AE18-432A-A105-C875D58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4C99-CF94-4A1C-ACFA-6E7385CE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8AD-ECB5-413A-ACB1-24F0B0C2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E51-1060-4D50-BB94-4BB4AFA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8A2-84B5-4DBA-BC69-559717E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DD17-2630-4D54-A951-5AFF3DAC74B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79E-62CB-43A3-A677-65100397B7B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99E4-2A74-4435-B975-9133580E730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A2F1-F338-427C-8487-D6B3D59D2C1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BDED-72B6-46FF-93C5-C8CF2802AFB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1042920" y="2997360"/>
            <a:ext cx="748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898560" y="981000"/>
            <a:ext cx="7632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«Озё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015800" y="5157720"/>
            <a:ext cx="43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Пономаре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Л «ВУВК  имени А.П. Киселё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57200" y="277920"/>
            <a:ext cx="82296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c65"/>
                </a:solidFill>
                <a:latin typeface="Arial"/>
              </a:rPr>
              <a:t>Значение оз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зера увлажняют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бывают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одят ры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еревозят гр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Являются местам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Являются источником пресно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2573640" y="351000"/>
            <a:ext cx="42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ссыл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1089000" y="15526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E%D0%B7%D1%91%D1%80%D0%B0+%D1%80%D0%BE%D1%81%D1%81%D0%B8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6840" y="1341000"/>
            <a:ext cx="2962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569080" cy="5256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5092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зеро </a:t>
            </a:r>
            <a:r>
              <a:rPr b="0" lang="ru-RU" sz="3600" spc="-1" strike="noStrike">
                <a:solidFill>
                  <a:srgbClr val="031828"/>
                </a:solidFill>
                <a:latin typeface="Arial"/>
              </a:rPr>
              <a:t>– это скопление воды в природном углуб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542880" y="60480"/>
            <a:ext cx="835200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468360" y="1341360"/>
          <a:ext cx="8207280" cy="5399280"/>
        </p:xfrm>
        <a:graphic>
          <a:graphicData uri="http://schemas.openxmlformats.org/drawingml/2006/table">
            <a:tbl>
              <a:tblPr/>
              <a:tblGrid>
                <a:gridCol w="1816200"/>
                <a:gridCol w="2431800"/>
                <a:gridCol w="1943280"/>
                <a:gridCol w="2016000"/>
              </a:tblGrid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чины образования котлов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озера свер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кто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ибы земной коры, трещ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олговатые и уз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айкал, Тангань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дник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ний ле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адожское, Онеж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атки древних морей, отделившихся при горообраз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ой площ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спийское, Араль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пру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ушение в русло реки скалы, перегораживание ру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улк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кратере потухшего вулк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оноц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зёра-стар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таром русле ре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ковообраз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рст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творение пород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углые, небольшой площ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780000" y="5921280"/>
            <a:ext cx="2479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Оз.Байка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500040" y="-146160"/>
            <a:ext cx="8358120" cy="155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f_7801"/>
          <p:cNvPicPr/>
          <p:nvPr/>
        </p:nvPicPr>
        <p:blipFill>
          <a:blip r:embed="rId2"/>
          <a:stretch/>
        </p:blipFill>
        <p:spPr>
          <a:xfrm>
            <a:off x="495360" y="102708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200240" y="73080"/>
            <a:ext cx="6511680" cy="1311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557000"/>
            <a:ext cx="3178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зеро ледниковое - образуется в результате выпахивающей и аккумулятивной деятельности ледников. 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2433600" y="2673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2649600" y="2889360"/>
            <a:ext cx="85680" cy="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2417760" y="1341360"/>
            <a:ext cx="4970520" cy="4608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916360" y="5951520"/>
            <a:ext cx="367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. Таймыр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f_7801"/>
          <p:cNvPicPr/>
          <p:nvPr/>
        </p:nvPicPr>
        <p:blipFill>
          <a:blip r:embed="rId5"/>
          <a:stretch/>
        </p:blipFill>
        <p:spPr>
          <a:xfrm>
            <a:off x="230040" y="1144440"/>
            <a:ext cx="8748720" cy="480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457280" y="92160"/>
            <a:ext cx="6516720" cy="1554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Карст"/>
          <p:cNvPicPr/>
          <p:nvPr/>
        </p:nvPicPr>
        <p:blipFill>
          <a:blip r:embed="rId2"/>
          <a:stretch/>
        </p:blipFill>
        <p:spPr>
          <a:xfrm>
            <a:off x="755640" y="1660680"/>
            <a:ext cx="7993080" cy="36414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2916360" y="5589720"/>
            <a:ext cx="36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Оз. ЦРВЕНО (Красное) в Хорватии, глубина 300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50920" y="333360"/>
          <a:ext cx="8893080" cy="6964200"/>
        </p:xfrm>
        <a:graphic>
          <a:graphicData uri="http://schemas.openxmlformats.org/drawingml/2006/table">
            <a:tbl>
              <a:tblPr/>
              <a:tblGrid>
                <a:gridCol w="2544840"/>
                <a:gridCol w="3593880"/>
                <a:gridCol w="2754360"/>
              </a:tblGrid>
              <a:tr h="916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73c65"/>
                          </a:solidFill>
                          <a:latin typeface="Allegro BT"/>
                        </a:rPr>
                        <a:t>Озера-стариц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66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eccf3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31828"/>
                          </a:solidFill>
                          <a:latin typeface="Arial"/>
                        </a:rPr>
                        <a:t>Примером пойменных озер могут служить озера-стариц. Это участки бывшего русла реки, ИЗМЕНИВШЕЙ В ЭТОМ МЕСТЕ СВОЕ НАПРАВЛЕНИЕ Поэтому и форма озер удлиненная, вытянутая, нередко сохраняющая форму изгиба речного рус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8" name="Picture 14" descr="lilit"/>
          <p:cNvPicPr/>
          <p:nvPr/>
        </p:nvPicPr>
        <p:blipFill>
          <a:blip r:embed="rId1"/>
          <a:stretch/>
        </p:blipFill>
        <p:spPr>
          <a:xfrm>
            <a:off x="684360" y="162864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lopdesnat"/>
          <p:cNvPicPr/>
          <p:nvPr/>
        </p:nvPicPr>
        <p:blipFill>
          <a:blip r:embed="rId2"/>
          <a:stretch/>
        </p:blipFill>
        <p:spPr>
          <a:xfrm>
            <a:off x="3348000" y="1593720"/>
            <a:ext cx="2563920" cy="244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smozerot"/>
          <p:cNvPicPr/>
          <p:nvPr/>
        </p:nvPicPr>
        <p:blipFill>
          <a:blip r:embed="rId3"/>
          <a:stretch/>
        </p:blipFill>
        <p:spPr>
          <a:xfrm>
            <a:off x="6084720" y="1633680"/>
            <a:ext cx="2448000" cy="240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1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82296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457200" y="1052640"/>
            <a:ext cx="8228520" cy="3483360"/>
            <a:chOff x="457200" y="1052640"/>
            <a:chExt cx="8228520" cy="3483360"/>
          </a:xfrm>
        </p:grpSpPr>
        <p:cxnSp>
          <p:nvCxnSpPr>
            <p:cNvPr id="293" name="_s1028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5330520" y="1685880"/>
              <a:ext cx="697320" cy="221544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29"/>
            <p:cNvCxnSpPr>
              <a:stCxn id="297" idx="0"/>
              <a:endCxn id="295" idx="2"/>
            </p:cNvCxnSpPr>
            <p:nvPr/>
          </p:nvCxnSpPr>
          <p:spPr>
            <a:xfrm flipH="1" flipV="1" rot="5400000">
              <a:off x="3114720" y="1685880"/>
              <a:ext cx="697320" cy="221616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5" name="_s1030"/>
            <p:cNvSpPr/>
            <p:nvPr/>
          </p:nvSpPr>
          <p:spPr>
            <a:xfrm>
              <a:off x="2673000" y="105264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зер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031"/>
            <p:cNvSpPr/>
            <p:nvPr/>
          </p:nvSpPr>
          <p:spPr>
            <a:xfrm>
              <a:off x="45720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точ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йк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адо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неж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032"/>
            <p:cNvSpPr/>
            <p:nvPr/>
          </p:nvSpPr>
          <p:spPr>
            <a:xfrm>
              <a:off x="4888080" y="3142800"/>
              <a:ext cx="3797640" cy="1393200"/>
            </a:xfrm>
            <a:prstGeom prst="roundRect">
              <a:avLst>
                <a:gd name="adj" fmla="val 16667"/>
              </a:avLst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Бессточно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спий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алха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Овал 1"/>
          <p:cNvSpPr/>
          <p:nvPr/>
        </p:nvSpPr>
        <p:spPr>
          <a:xfrm>
            <a:off x="1042920" y="5229360"/>
            <a:ext cx="2376720" cy="1130040"/>
          </a:xfrm>
          <a:prstGeom prst="ellipse">
            <a:avLst/>
          </a:prstGeom>
          <a:solidFill>
            <a:srgbClr val="5eccf3"/>
          </a:solidFill>
          <a:ln w="15840">
            <a:solidFill>
              <a:srgbClr val="226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низ 2"/>
          <p:cNvSpPr/>
          <p:nvPr/>
        </p:nvSpPr>
        <p:spPr>
          <a:xfrm>
            <a:off x="2968560" y="4740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1042920" y="5794200"/>
            <a:ext cx="536760" cy="1000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3"/>
          <a:stretch/>
        </p:blipFill>
        <p:spPr>
          <a:xfrm>
            <a:off x="5435640" y="5259240"/>
            <a:ext cx="2395440" cy="1146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"/>
          <p:cNvPicPr/>
          <p:nvPr/>
        </p:nvPicPr>
        <p:blipFill>
          <a:blip r:embed="rId4"/>
          <a:stretch/>
        </p:blipFill>
        <p:spPr>
          <a:xfrm>
            <a:off x="7294680" y="4896000"/>
            <a:ext cx="536400" cy="93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991640" cy="1311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650960" y="5778000"/>
            <a:ext cx="752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0680" algn="ctr">
              <a:lnSpc>
                <a:spcPct val="7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амое соленое озеро мира –  Мертвое море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669744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1158840" y="1085760"/>
            <a:ext cx="1382760" cy="8827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6"/>
          <p:cNvSpPr/>
          <p:nvPr/>
        </p:nvSpPr>
        <p:spPr>
          <a:xfrm>
            <a:off x="478440" y="1916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сные – до    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778480" y="24922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оноватые – от1 % до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5817960" y="188604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ые – более 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017960" y="1238400"/>
            <a:ext cx="341280" cy="144432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ая со стрелкой 13" descr=""/>
          <p:cNvPicPr/>
          <p:nvPr/>
        </p:nvPicPr>
        <p:blipFill>
          <a:blip r:embed="rId5"/>
          <a:stretch/>
        </p:blipFill>
        <p:spPr>
          <a:xfrm>
            <a:off x="6686640" y="1225440"/>
            <a:ext cx="817560" cy="85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1:21:27Z</dcterms:created>
  <dc:creator>Customer</dc:creator>
  <dc:description/>
  <dc:language>en-US</dc:language>
  <cp:lastModifiedBy>user</cp:lastModifiedBy>
  <dcterms:modified xsi:type="dcterms:W3CDTF">2013-02-10T15:38:49Z</dcterms:modified>
  <cp:revision>11</cp:revision>
  <dc:subject/>
  <dc:title>Тектонические озера</dc:title>
</cp:coreProperties>
</file>