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465-AD07-43A6-86CC-0D23F0E6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273-CC2C-4C56-B7D3-28FA2F18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60F-0A9D-4C7D-803B-8E176323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A8E-D656-4D04-9324-905BDF4F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2FE4-9B70-4928-9BC0-271D7E61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4371-F80E-41E9-89EA-3A67B7F9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BD5C-9B18-4BDE-8E70-BAC42B07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686C-D3CE-48C2-91B3-26DB4E2B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0740-A2E1-4E99-9AFD-19A74873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F037-B114-4539-8B19-21289670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FB91-C0FF-49A9-A328-B5AB4867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30E-1A3A-40A1-A200-E460976C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844E-6F76-40E9-86C8-8DDB9AE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5985-CAE7-4FEE-A67A-1CAE953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8042-A415-45AB-BBB0-4EC15F12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C183-12FE-42DA-A907-36E20900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6D35-E08F-4CA6-8553-AE8B9B1D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D15-98B4-45CB-A2F5-C3159329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651-39BD-43D7-AE97-F9A542FC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2A5-D152-4ABA-B7BF-2FEA0E11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F8E-A67E-4E8C-9FBD-9A659B41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516-8416-44AB-8BB2-F1425A3B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E92-935E-414B-BDAD-01C526B7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FA9-762A-4993-BD8B-06733852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4EE7-7E04-4357-AE4F-A7A93D5157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0C46-A344-4865-B0D5-22ECF56242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457200"/>
            <a:ext cx="7239240" cy="403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ПРОБЛЕМА НАРОДАНАСЕЛЕНИЯ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И ЭКОЛОГИЯ»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10 КЛАС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4920" y="45720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: Пономарева Елена Василье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БОУЛ «ВУВК имени А.П. Киселё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6" descr="1242977300_perepis1.jpg"/>
          <p:cNvPicPr/>
          <p:nvPr/>
        </p:nvPicPr>
        <p:blipFill>
          <a:blip r:embed="rId2"/>
          <a:stretch/>
        </p:blipFill>
        <p:spPr>
          <a:xfrm>
            <a:off x="1676520" y="1676520"/>
            <a:ext cx="6476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Продовольственная пробл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Голодающие дети"/>
          <p:cNvPicPr/>
          <p:nvPr/>
        </p:nvPicPr>
        <p:blipFill>
          <a:blip r:embed="rId2"/>
          <a:stretch/>
        </p:blipFill>
        <p:spPr>
          <a:xfrm>
            <a:off x="6299280" y="4952880"/>
            <a:ext cx="2844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Ресурсно-сырьевая пробл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Цель урока: обобщить знания по теме: «Народонаселение»; выявить зависимость экологической ситуации в мире и состояния народонаселения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рассмотреть современные особенности изменения численности населен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выявить факторы, от которых зависит естественный прирост населен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представить итоги переписи населения России и школы, проанализировать демографическую ситуацию в городе Воронеж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выявить эколого-географические проблемы народонасел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Воспроизводство населения ми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Рисунок 3" descr="char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Демографическая пробл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Содержимое 3" descr="ecological-creditors-and-debtors_001.jpg"/>
          <p:cNvPicPr/>
          <p:nvPr/>
        </p:nvPicPr>
        <p:blipFill>
          <a:blip r:embed="rId1"/>
          <a:stretch/>
        </p:blipFill>
        <p:spPr>
          <a:xfrm>
            <a:off x="1066680" y="99072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Содержимое 3" descr="i.jpg"/>
          <p:cNvPicPr/>
          <p:nvPr/>
        </p:nvPicPr>
        <p:blipFill>
          <a:blip r:embed="rId1"/>
          <a:stretch/>
        </p:blipFill>
        <p:spPr>
          <a:xfrm>
            <a:off x="2362320" y="1905120"/>
            <a:ext cx="551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Содержимое 4" descr="ecological-creditors-and-debtors_001.jpg"/>
          <p:cNvPicPr/>
          <p:nvPr/>
        </p:nvPicPr>
        <p:blipFill>
          <a:blip r:embed="rId1"/>
          <a:stretch/>
        </p:blipFill>
        <p:spPr>
          <a:xfrm>
            <a:off x="4186080" y="3540240"/>
            <a:ext cx="1681200" cy="689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Возрастной состав населени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73" descr="start"/>
          <p:cNvPicPr/>
          <p:nvPr/>
        </p:nvPicPr>
        <p:blipFill>
          <a:blip r:embed="rId1"/>
          <a:stretch/>
        </p:blipFill>
        <p:spPr>
          <a:xfrm>
            <a:off x="0" y="0"/>
            <a:ext cx="464832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2" descr="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3"/>
          <p:cNvPicPr/>
          <p:nvPr/>
        </p:nvPicPr>
        <p:blipFill>
          <a:blip r:embed="rId3"/>
          <a:stretch/>
        </p:blipFill>
        <p:spPr>
          <a:xfrm>
            <a:off x="1219320" y="2743200"/>
            <a:ext cx="6705360" cy="3809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1T16:49:1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